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27A-177E-458D-9100-81CCA7FA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FB7-9DDC-4C08-B98D-C8FDFCAB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4E01-F3B8-4873-A5FC-B9D63495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6AAE-E8D5-4D93-8ECD-825C5BAA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8D86-FB4B-48F1-B68D-420BB91C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D9AA-8448-4BA5-9154-14B61C66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273-AEFB-4B04-BE4A-9C22702A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st of presentation explan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38D-BC5E-49BC-92D3-E9878F68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A39-92FF-46A6-9BA6-90A9BBD1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359-FDD3-43BE-A9DF-6431EAB3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39FB-98DC-4334-BAA1-40B86731A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B59-C5F1-40E9-A10D-AE166FF2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oose to offer user to save his/hers choice , and to allow user to reset previous saved consent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56C-5AE9-4714-AD64-BAAF9DC0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09932-D2C9-4A28-995C-05BABCF82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6D52-A845-4DD2-BF04-710197989E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2B9347-D465-41ED-B0F6-90560290049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CD4F3-0577-4329-AF6D-B451F33FAC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F0BC2-76F5-42FA-99E5-B6ED71D00A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A78DFB-9ED4-47CA-AF0A-E38A219548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26FC2-9CC5-415A-A57C-B7ABAE59B3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5F58F5-4CAE-45DD-8EFD-40B42F1ADB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697359-B165-43FB-8FD3-0BF36FEEB7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D2D03-B8F1-4285-BCBC-2EB43A996D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BDCA4D-321B-4C76-8228-ECE82D23C2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92B4E-101D-4F7D-9EF2-C04D8C8AF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2A41-0A0F-402D-87F2-FD95287579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2FF4-747E-40B9-B624-A1E2E3454B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BC34-8C24-4C3B-B80B-FFD9C4C0FA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B001-390E-464D-98EC-2D42E6367D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D80F-B000-42CA-9E99-7337520504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4F1C-D87E-4DC2-B5C6-6F74675F9D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F3FF-38DD-4DDA-8B65-67CD6665E4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331DA-47A2-4A37-8D2C-DA32AC3195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752D-3223-4103-9825-35FF85E301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CB89-2848-45A3-9A81-75173D55E3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99DC-6E93-4362-8DA9-3291DD4F8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5D24-CB24-436D-9ED7-488C7F767AA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CD56-1C80-43AE-B1C0-AE30F9D95F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08882-F653-4E4D-AE4C-1B751A55D0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D11D5-FDB5-4E5B-8AF7-3F3AF89597E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5F627-B69E-4015-87BF-05B9690142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BB445-D070-48A1-A65F-409040DE6E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3479E-49B9-4CB6-9A64-DFB511FBF9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8EDF6-A404-4D53-81C5-D22C8EB35B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014CD-9975-40A7-9181-849811FB991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58387-341E-4E39-A9F8-7D945C510C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D5199-6D63-424D-8804-769A88BE5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BC056-1935-4D1D-97F4-8215F2411A0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E9376-16A6-4A20-BE79-B063464F85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7309E-42FF-4100-8D87-068C93C157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52DC77-BD61-4696-B8DE-58682F2C1AA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B0FF26-B53D-4BFC-802B-C82C996A8E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207F51-D04D-4179-A227-349CCD9648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07ED88-8371-48C1-B1AC-CCDC99BBE8D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718FA-501B-4CE9-AFDE-489D1D15E07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A7E8F7-7595-4CAF-B5A2-4E9A28DEDA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94ECFD-E2AE-4BFC-8A78-F3373C394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93C3B-8CE9-452C-B13D-382972AC06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0654F-8CD2-4ADA-A5F2-229FFF88F1F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6A612-E44E-4D0F-8EC0-A8DCE0E10A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1C1D8-B48C-4131-A4F4-E4FAC3922D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E0A4B6-735E-4CB4-B416-AD02864B03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3D9B-8D4B-4AA6-863B-AD56C7CEFA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4F3B-509F-43B8-8225-53EBF639AF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A4E09-C1F3-4F5A-A6AB-C378033066D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2796-AD33-4ECB-87F1-2BA8F9F649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AFAF-9866-4D39-840D-CF983F0254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9A5E-0BDE-44BF-BDC8-908DD38C15E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E3EE-EA02-4F49-A363-869C50DDE7C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042A-F816-4E3C-A40E-A9155F43B1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786A-59CD-422C-A246-8B9C149009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BC32A-3AEF-4870-BFAE-8BE30C5387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F437-A331-4F2F-A347-01F8C3D1BB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FC30C-3179-4266-BB22-244F4D320F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A7A8-DDDA-4385-9089-6B7793956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5FAFA-E5C4-40D7-897B-D37BCA21CD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7FEB0-152B-4E65-8F41-1F7B34301B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F30C-166E-4E20-B236-C8290319A0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7AB7-E2CD-402B-8BC1-C0FA0390BA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C935E-C604-427E-B3E8-A9F97DE32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0A4A-9941-4407-BE79-D8C39F5DE3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A69E-42F6-44BA-9E76-D92E48C1A4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5B6A9-0AFD-4E80-AAF1-6476E27D3B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F0ED-5B04-4DAE-9E51-2D0356B4E0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4C125-1B8A-4BEF-9AA9-F4C5D5C44E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138D9-3A54-4C5A-9641-C28A2D1049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8EDFB-9546-4D70-BC95-BAEE82AB9B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74516-7F01-402A-9607-D825A973CB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977-ECAB-466F-AF55-957356F301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0F1-8DD7-4FA1-885C-D1AC086F81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5CB-6C5E-40B7-8816-4A7D90282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0804-CFEB-4954-9DD1-34E322913D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911-6E66-4D41-ABB8-68ED599CBB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3DB-0CBB-429A-BD72-871CC767C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02E-AA30-4C74-8559-8BF77E488A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4535-74E3-42C6-B6B8-B0EFB7F17A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1D83-EF24-46E2-9724-4353FD6709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645-7971-4AFA-B83C-0D87BC1651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0315-B8F8-4BA7-930A-A66C229E49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682E-DF09-41DD-AE42-D9603D36D1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EA40-B254-42A9-A6A8-4D36A9AF87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EF572-4238-496D-BA8F-B5E696EE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FF72-9180-4AC9-9B3B-36A60CE92E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A645-C09B-4453-8E57-651DD0EE4A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0957F-FA93-4ED0-B497-5DB785F034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4D6E5-4C0A-4133-9E99-069C95D899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2AAA4-3258-4682-9EAA-22ACB8B556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7B8D6-DB0D-49CF-82CD-3476B40FEC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F9496D-28CC-4764-BAEB-BEA7915F05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A5351-8854-47DF-942C-D8079C6BC2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CD6A3-2734-43E9-AF6E-63065DE802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337C2-7C9E-4037-9B31-C2F221FB38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E609D-BA1E-4DF3-A8E6-B0C62B9AE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8AAB-2873-454F-8C9C-B4295101F7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B8D18-AD16-4372-8A28-7F49B85335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64158-EE77-4DAA-A81D-416C3FB8D8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CDB09-6919-48A8-8063-C574C19F85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0DF30-B721-4BB1-81EB-230E930FAF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3C800-F5D1-4A2A-BDBF-C20CBC66DE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376AD-7D1D-46AB-8AD6-388F17C9065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E98AC-98AA-4A39-9361-747F9E268C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F6D86-16EF-4465-9050-65768219D8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137D2-F51E-4456-AF84-DE70E4775D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20E11-D851-42FB-9FEE-77E7BA79E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A4A2-B9DA-4FCB-A167-EFA4508310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99144-C9D8-4625-BF2C-B55DF7075F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B889B-6143-42A0-8773-EAFB29F523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2FAC1-A592-44B4-A41D-BD6FA0BA3A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CEED7-0B12-4C3C-86AD-CCCC3065EE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9568-E1EA-4363-BA88-933BB6D2C8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FF7B-1FD9-4F76-B038-65E1F06BC6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2A6F-206F-47A5-A530-92299E4B5F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8025-4A01-43E3-B327-91B2D31C50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9175-2431-47B6-8AB5-0BB9FE6EF8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AE24-4C73-47D6-9231-5AF7FB09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A05A1-8354-47CE-AAE2-DDEE490299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ED45-B924-4B57-9670-B6997D4AFF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4B70-6910-4C26-8DF1-62520DB481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8C163-DFBA-4953-A8FA-8AFFB14EC9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7AD8-2257-47E1-8625-F256882D0F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CD6E-883C-4AF0-B4A6-93492355AB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78A2A-5448-408E-9817-CD3A434A54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D80DF-16CF-4F41-9F21-A71CD8BA95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18082-AD24-42AE-B0AB-B1B1FB72F07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4DE39-77A0-40F9-A256-6B2C44EF47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1C1CB-0505-4718-B9C3-366103533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C7C4-43DB-4E03-843F-A265F0E8AD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33B0-0A5E-4046-9B2E-7011645507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D5E93-8986-47FA-9A00-1B2534472C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3447C-83BF-43A9-8F39-2E592C75E8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267FC-2ED3-4A4B-83B3-E7899C15FC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E639D-B471-4696-9D02-D51145748B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5465A-6FDF-4068-B601-12EE291E78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2DBC5-3417-4286-B186-5490D4E49C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B536C0-8328-4FA9-849A-7334589DDC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2BCD9-F3FC-4EF5-B155-39F3026484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D8187-57A0-4302-A7A3-0AC8C915C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702-F56E-40DC-B8CC-EA274E3CA5E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89C8-FDAB-48FF-84ED-667C23BF8A4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1403-245B-40BE-985D-6FBA31000EB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DD6B-22AD-4221-BDCC-2F94535A648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1EB0-0C53-4797-8530-745A653AABB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4648320" y="1600200"/>
          <a:ext cx="4267080" cy="28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267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72AF-F0E2-40EB-9AF5-DC1B2005AC4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7B50-6813-4C2F-982D-4895A3C1F85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A30-F9BB-4EC8-8C2A-DC30A0234ED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5F74-EB0B-4EC7-9783-822CA7E6EB3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3159-0B6F-440D-8904-9735B076355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137E-6389-449F-AB40-C4105D9F686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933-F853-4BBB-9043-929557AF9A2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411480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AI with simpleSAMLphp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61760" y="536220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arina Vermezovi</a:t>
            </a:r>
            <a:r>
              <a:rPr b="0" lang="sr-Latn-CS" sz="2400" spc="-1" strike="noStrike">
                <a:solidFill>
                  <a:srgbClr val="808080"/>
                </a:solidFill>
                <a:latin typeface="Trebuchet MS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Academic Network of Serbia -AM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EIFL, 15.12.201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86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Straight Arrow Connector 82"/>
          <p:cNvCxnSpPr>
            <a:endCxn id="692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3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09" name="Picture 140" descr=""/>
            <p:cNvPicPr/>
            <p:nvPr/>
          </p:nvPicPr>
          <p:blipFill>
            <a:blip r:embed="rId4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124"/>
          <p:cNvCxnSpPr>
            <a:endCxn id="702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12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13" name="Picture 136" descr=""/>
            <p:cNvPicPr/>
            <p:nvPr/>
          </p:nvPicPr>
          <p:blipFill>
            <a:blip r:embed="rId5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9BF-F828-43A6-B315-788C4939A6F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26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Straight Arrow Connector 82"/>
          <p:cNvCxnSpPr>
            <a:endCxn id="728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29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 Same Side Corner Rectangle 96"/>
          <p:cNvSpPr/>
          <p:nvPr/>
        </p:nvSpPr>
        <p:spPr>
          <a:xfrm rot="16200000">
            <a:off x="4577400" y="2900880"/>
            <a:ext cx="380880" cy="49068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 Same Side Corner Rectangle 97"/>
          <p:cNvSpPr/>
          <p:nvPr/>
        </p:nvSpPr>
        <p:spPr>
          <a:xfrm rot="16200000">
            <a:off x="3944880" y="275904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98" descr="Database Icon 48px png"/>
          <p:cNvPicPr/>
          <p:nvPr/>
        </p:nvPicPr>
        <p:blipFill>
          <a:blip r:embed="rId4"/>
          <a:stretch/>
        </p:blipFill>
        <p:spPr>
          <a:xfrm>
            <a:off x="4214880" y="295272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74"/>
          <p:cNvSpPr/>
          <p:nvPr/>
        </p:nvSpPr>
        <p:spPr>
          <a:xfrm>
            <a:off x="3701880" y="297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5"/>
          <p:cNvSpPr/>
          <p:nvPr/>
        </p:nvSpPr>
        <p:spPr>
          <a:xfrm>
            <a:off x="4471920" y="2976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und Same Side Corner Rectangle 102"/>
          <p:cNvSpPr/>
          <p:nvPr/>
        </p:nvSpPr>
        <p:spPr>
          <a:xfrm rot="16200000">
            <a:off x="4572720" y="340560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 Same Side Corner Rectangle 103"/>
          <p:cNvSpPr/>
          <p:nvPr/>
        </p:nvSpPr>
        <p:spPr>
          <a:xfrm rot="16200000">
            <a:off x="3949560" y="326340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4" descr="Database Icon 48px png"/>
          <p:cNvPicPr/>
          <p:nvPr/>
        </p:nvPicPr>
        <p:blipFill>
          <a:blip r:embed="rId5"/>
          <a:stretch/>
        </p:blipFill>
        <p:spPr>
          <a:xfrm>
            <a:off x="4219560" y="345744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82"/>
          <p:cNvSpPr/>
          <p:nvPr/>
        </p:nvSpPr>
        <p:spPr>
          <a:xfrm>
            <a:off x="3706920" y="34783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83"/>
          <p:cNvSpPr/>
          <p:nvPr/>
        </p:nvSpPr>
        <p:spPr>
          <a:xfrm>
            <a:off x="4467240" y="3481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ound Same Side Corner Rectangle 108"/>
          <p:cNvSpPr/>
          <p:nvPr/>
        </p:nvSpPr>
        <p:spPr>
          <a:xfrm rot="16200000">
            <a:off x="4572720" y="484704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und Same Side Corner Rectangle 109"/>
          <p:cNvSpPr/>
          <p:nvPr/>
        </p:nvSpPr>
        <p:spPr>
          <a:xfrm rot="16200000">
            <a:off x="3949560" y="470484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10" descr="Database Icon 48px png"/>
          <p:cNvPicPr/>
          <p:nvPr/>
        </p:nvPicPr>
        <p:blipFill>
          <a:blip r:embed="rId6"/>
          <a:stretch/>
        </p:blipFill>
        <p:spPr>
          <a:xfrm>
            <a:off x="4219560" y="48988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88"/>
          <p:cNvSpPr/>
          <p:nvPr/>
        </p:nvSpPr>
        <p:spPr>
          <a:xfrm>
            <a:off x="3706920" y="491976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9"/>
          <p:cNvSpPr/>
          <p:nvPr/>
        </p:nvSpPr>
        <p:spPr>
          <a:xfrm>
            <a:off x="4467240" y="492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 Same Side Corner Rectangle 114"/>
          <p:cNvSpPr/>
          <p:nvPr/>
        </p:nvSpPr>
        <p:spPr>
          <a:xfrm rot="16200000">
            <a:off x="4567680" y="5374080"/>
            <a:ext cx="381240" cy="49032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 Same Side Corner Rectangle 115"/>
          <p:cNvSpPr/>
          <p:nvPr/>
        </p:nvSpPr>
        <p:spPr>
          <a:xfrm rot="16200000">
            <a:off x="3935520" y="523080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16" descr="Database Icon 48px png"/>
          <p:cNvPicPr/>
          <p:nvPr/>
        </p:nvPicPr>
        <p:blipFill>
          <a:blip r:embed="rId7"/>
          <a:stretch/>
        </p:blipFill>
        <p:spPr>
          <a:xfrm>
            <a:off x="4205160" y="54244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4"/>
          <p:cNvSpPr/>
          <p:nvPr/>
        </p:nvSpPr>
        <p:spPr>
          <a:xfrm>
            <a:off x="3692520" y="544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95"/>
          <p:cNvSpPr/>
          <p:nvPr/>
        </p:nvSpPr>
        <p:spPr>
          <a:xfrm>
            <a:off x="4462560" y="5448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119"/>
          <p:cNvCxnSpPr>
            <a:endCxn id="744" idx="1"/>
          </p:cNvCxnSpPr>
          <p:nvPr/>
        </p:nvCxnSpPr>
        <p:spPr>
          <a:xfrm>
            <a:off x="2331720" y="2313000"/>
            <a:ext cx="1370520" cy="82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5" name="Straight Arrow Connector 120"/>
          <p:cNvCxnSpPr>
            <a:endCxn id="750" idx="1"/>
          </p:cNvCxnSpPr>
          <p:nvPr/>
        </p:nvCxnSpPr>
        <p:spPr>
          <a:xfrm>
            <a:off x="2331720" y="2352600"/>
            <a:ext cx="1375560" cy="12945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6" name="Straight Arrow Connector 121"/>
          <p:cNvCxnSpPr>
            <a:endCxn id="762" idx="1"/>
          </p:cNvCxnSpPr>
          <p:nvPr/>
        </p:nvCxnSpPr>
        <p:spPr>
          <a:xfrm>
            <a:off x="2300040" y="2398680"/>
            <a:ext cx="1392840" cy="3215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67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68" name="Picture 140" descr=""/>
            <p:cNvPicPr/>
            <p:nvPr/>
          </p:nvPicPr>
          <p:blipFill>
            <a:blip r:embed="rId8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3"/>
          <p:cNvGrpSpPr/>
          <p:nvPr/>
        </p:nvGrpSpPr>
        <p:grpSpPr>
          <a:xfrm>
            <a:off x="3157560" y="2693880"/>
            <a:ext cx="447480" cy="457200"/>
            <a:chOff x="3157560" y="2693880"/>
            <a:chExt cx="447480" cy="457200"/>
          </a:xfrm>
        </p:grpSpPr>
        <p:pic>
          <p:nvPicPr>
            <p:cNvPr id="771" name="Picture 138" descr=""/>
            <p:cNvPicPr/>
            <p:nvPr/>
          </p:nvPicPr>
          <p:blipFill>
            <a:blip r:embed="rId9"/>
            <a:stretch/>
          </p:blipFill>
          <p:spPr>
            <a:xfrm>
              <a:off x="3157560" y="269388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139"/>
            <p:cNvSpPr/>
            <p:nvPr/>
          </p:nvSpPr>
          <p:spPr>
            <a:xfrm>
              <a:off x="3182760" y="27144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3" name="Straight Arrow Connector 124"/>
          <p:cNvCxnSpPr>
            <a:endCxn id="738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74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75" name="Picture 136" descr=""/>
            <p:cNvPicPr/>
            <p:nvPr/>
          </p:nvPicPr>
          <p:blipFill>
            <a:blip r:embed="rId10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26"/>
          <p:cNvGrpSpPr/>
          <p:nvPr/>
        </p:nvGrpSpPr>
        <p:grpSpPr>
          <a:xfrm>
            <a:off x="2519280" y="3517920"/>
            <a:ext cx="393840" cy="393840"/>
            <a:chOff x="2519280" y="3517920"/>
            <a:chExt cx="393840" cy="393840"/>
          </a:xfrm>
        </p:grpSpPr>
        <p:pic>
          <p:nvPicPr>
            <p:cNvPr id="778" name="Picture 134" descr=""/>
            <p:cNvPicPr/>
            <p:nvPr/>
          </p:nvPicPr>
          <p:blipFill>
            <a:blip r:embed="rId11"/>
            <a:stretch/>
          </p:blipFill>
          <p:spPr>
            <a:xfrm>
              <a:off x="2531880" y="353052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Oval 135"/>
            <p:cNvSpPr/>
            <p:nvPr/>
          </p:nvSpPr>
          <p:spPr>
            <a:xfrm>
              <a:off x="2519280" y="35179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0" name="Straight Arrow Connector 127"/>
          <p:cNvCxnSpPr>
            <a:endCxn id="756" idx="1"/>
          </p:cNvCxnSpPr>
          <p:nvPr/>
        </p:nvCxnSpPr>
        <p:spPr>
          <a:xfrm>
            <a:off x="2322360" y="2352600"/>
            <a:ext cx="1385280" cy="2736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81" name="Group 128"/>
          <p:cNvGrpSpPr/>
          <p:nvPr/>
        </p:nvGrpSpPr>
        <p:grpSpPr>
          <a:xfrm>
            <a:off x="2994120" y="3565440"/>
            <a:ext cx="393480" cy="393840"/>
            <a:chOff x="2994120" y="3565440"/>
            <a:chExt cx="393480" cy="393840"/>
          </a:xfrm>
        </p:grpSpPr>
        <p:pic>
          <p:nvPicPr>
            <p:cNvPr id="782" name="Picture 132" descr=""/>
            <p:cNvPicPr/>
            <p:nvPr/>
          </p:nvPicPr>
          <p:blipFill>
            <a:blip r:embed="rId12"/>
            <a:stretch/>
          </p:blipFill>
          <p:spPr>
            <a:xfrm>
              <a:off x="3003480" y="357660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Oval 133"/>
            <p:cNvSpPr/>
            <p:nvPr/>
          </p:nvSpPr>
          <p:spPr>
            <a:xfrm>
              <a:off x="2994120" y="3565440"/>
              <a:ext cx="39348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29"/>
          <p:cNvGrpSpPr/>
          <p:nvPr/>
        </p:nvGrpSpPr>
        <p:grpSpPr>
          <a:xfrm>
            <a:off x="3114720" y="3137040"/>
            <a:ext cx="447480" cy="457200"/>
            <a:chOff x="3114720" y="3137040"/>
            <a:chExt cx="447480" cy="457200"/>
          </a:xfrm>
        </p:grpSpPr>
        <p:pic>
          <p:nvPicPr>
            <p:cNvPr id="785" name="Picture 130" descr=""/>
            <p:cNvPicPr/>
            <p:nvPr/>
          </p:nvPicPr>
          <p:blipFill>
            <a:blip r:embed="rId13"/>
            <a:stretch/>
          </p:blipFill>
          <p:spPr>
            <a:xfrm>
              <a:off x="3114720" y="313704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Oval 131"/>
            <p:cNvSpPr/>
            <p:nvPr/>
          </p:nvSpPr>
          <p:spPr>
            <a:xfrm>
              <a:off x="3141360" y="31590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4E45-0C1B-41E5-B8E9-137F50E3818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91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08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2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3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130"/>
          <p:cNvCxnSpPr>
            <a:endCxn id="84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4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5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56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62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130"/>
          <p:cNvCxnSpPr>
            <a:endCxn id="868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1" name="Straight Arrow Connector 131"/>
          <p:cNvCxnSpPr>
            <a:stCxn id="868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2" name="Straight Arrow Connector 132"/>
          <p:cNvCxnSpPr>
            <a:stCxn id="868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3" name="Straight Arrow Connector 133"/>
          <p:cNvCxnSpPr>
            <a:stCxn id="868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4" name="Straight Arrow Connector 134"/>
          <p:cNvCxnSpPr>
            <a:stCxn id="868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75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1" name="Straight Arrow Connector 141"/>
          <p:cNvCxnSpPr>
            <a:stCxn id="868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82" name="Straight Arrow Connector 142"/>
          <p:cNvCxnSpPr>
            <a:stCxn id="868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883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84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8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9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Straight Arrow Connector 130"/>
          <p:cNvCxnSpPr>
            <a:endCxn id="90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4" name="Straight Arrow Connector 131"/>
          <p:cNvCxnSpPr>
            <a:stCxn id="901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5" name="Straight Arrow Connector 132"/>
          <p:cNvCxnSpPr>
            <a:stCxn id="901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6" name="Straight Arrow Connector 133"/>
          <p:cNvCxnSpPr>
            <a:stCxn id="901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7" name="Straight Arrow Connector 134"/>
          <p:cNvCxnSpPr>
            <a:stCxn id="901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908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Straight Arrow Connector 141"/>
          <p:cNvCxnSpPr>
            <a:stCxn id="901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15" name="Straight Arrow Connector 142"/>
          <p:cNvCxnSpPr>
            <a:stCxn id="901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916" name="Group 143"/>
          <p:cNvGrpSpPr/>
          <p:nvPr/>
        </p:nvGrpSpPr>
        <p:grpSpPr>
          <a:xfrm>
            <a:off x="4557600" y="1916280"/>
            <a:ext cx="633600" cy="380880"/>
            <a:chOff x="4557600" y="1916280"/>
            <a:chExt cx="633600" cy="380880"/>
          </a:xfrm>
        </p:grpSpPr>
        <p:sp>
          <p:nvSpPr>
            <p:cNvPr id="917" name="TextBox 144"/>
            <p:cNvSpPr/>
            <p:nvPr/>
          </p:nvSpPr>
          <p:spPr>
            <a:xfrm>
              <a:off x="4557600" y="1925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ound Same Side Corner Rectangle 145"/>
            <p:cNvSpPr/>
            <p:nvPr/>
          </p:nvSpPr>
          <p:spPr>
            <a:xfrm rot="16200000">
              <a:off x="4688280" y="1861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146"/>
            <p:cNvSpPr/>
            <p:nvPr/>
          </p:nvSpPr>
          <p:spPr>
            <a:xfrm>
              <a:off x="4586040" y="19350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47"/>
          <p:cNvGrpSpPr/>
          <p:nvPr/>
        </p:nvGrpSpPr>
        <p:grpSpPr>
          <a:xfrm>
            <a:off x="4552920" y="2449080"/>
            <a:ext cx="633600" cy="381240"/>
            <a:chOff x="4552920" y="2449080"/>
            <a:chExt cx="633600" cy="381240"/>
          </a:xfrm>
        </p:grpSpPr>
        <p:sp>
          <p:nvSpPr>
            <p:cNvPr id="921" name="TextBox 148"/>
            <p:cNvSpPr/>
            <p:nvPr/>
          </p:nvSpPr>
          <p:spPr>
            <a:xfrm>
              <a:off x="4552920" y="2458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ound Same Side Corner Rectangle 149"/>
            <p:cNvSpPr/>
            <p:nvPr/>
          </p:nvSpPr>
          <p:spPr>
            <a:xfrm rot="16200000">
              <a:off x="4683600" y="2394360"/>
              <a:ext cx="381240" cy="490680"/>
            </a:xfrm>
            <a:custGeom>
              <a:avLst/>
              <a:gdLst>
                <a:gd name="textAreaLeft" fmla="*/ 18360 w 381240"/>
                <a:gd name="textAreaRight" fmla="*/ 362880 w 38124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Box 150"/>
            <p:cNvSpPr/>
            <p:nvPr/>
          </p:nvSpPr>
          <p:spPr>
            <a:xfrm>
              <a:off x="4581360" y="246816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51"/>
          <p:cNvGrpSpPr/>
          <p:nvPr/>
        </p:nvGrpSpPr>
        <p:grpSpPr>
          <a:xfrm>
            <a:off x="4557600" y="2982960"/>
            <a:ext cx="633600" cy="380880"/>
            <a:chOff x="4557600" y="2982960"/>
            <a:chExt cx="633600" cy="380880"/>
          </a:xfrm>
        </p:grpSpPr>
        <p:sp>
          <p:nvSpPr>
            <p:cNvPr id="925" name="TextBox 152"/>
            <p:cNvSpPr/>
            <p:nvPr/>
          </p:nvSpPr>
          <p:spPr>
            <a:xfrm>
              <a:off x="4557600" y="2992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 Same Side Corner Rectangle 153"/>
            <p:cNvSpPr/>
            <p:nvPr/>
          </p:nvSpPr>
          <p:spPr>
            <a:xfrm rot="16200000">
              <a:off x="4688280" y="292788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Box 154"/>
            <p:cNvSpPr/>
            <p:nvPr/>
          </p:nvSpPr>
          <p:spPr>
            <a:xfrm>
              <a:off x="4586040" y="300168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55"/>
          <p:cNvGrpSpPr/>
          <p:nvPr/>
        </p:nvGrpSpPr>
        <p:grpSpPr>
          <a:xfrm>
            <a:off x="4552920" y="3516480"/>
            <a:ext cx="633600" cy="380880"/>
            <a:chOff x="4552920" y="3516480"/>
            <a:chExt cx="633600" cy="380880"/>
          </a:xfrm>
        </p:grpSpPr>
        <p:sp>
          <p:nvSpPr>
            <p:cNvPr id="929" name="TextBox 156"/>
            <p:cNvSpPr/>
            <p:nvPr/>
          </p:nvSpPr>
          <p:spPr>
            <a:xfrm>
              <a:off x="4552920" y="3525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ound Same Side Corner Rectangle 157"/>
            <p:cNvSpPr/>
            <p:nvPr/>
          </p:nvSpPr>
          <p:spPr>
            <a:xfrm rot="16200000">
              <a:off x="4683600" y="34614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58"/>
            <p:cNvSpPr/>
            <p:nvPr/>
          </p:nvSpPr>
          <p:spPr>
            <a:xfrm>
              <a:off x="4581360" y="35352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9"/>
          <p:cNvGrpSpPr/>
          <p:nvPr/>
        </p:nvGrpSpPr>
        <p:grpSpPr>
          <a:xfrm>
            <a:off x="4552920" y="4854600"/>
            <a:ext cx="633600" cy="380880"/>
            <a:chOff x="4552920" y="4854600"/>
            <a:chExt cx="633600" cy="380880"/>
          </a:xfrm>
        </p:grpSpPr>
        <p:sp>
          <p:nvSpPr>
            <p:cNvPr id="933" name="TextBox 160"/>
            <p:cNvSpPr/>
            <p:nvPr/>
          </p:nvSpPr>
          <p:spPr>
            <a:xfrm>
              <a:off x="4552920" y="486396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ound Same Side Corner Rectangle 161"/>
            <p:cNvSpPr/>
            <p:nvPr/>
          </p:nvSpPr>
          <p:spPr>
            <a:xfrm rot="16200000">
              <a:off x="4683600" y="479952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Box 162"/>
            <p:cNvSpPr/>
            <p:nvPr/>
          </p:nvSpPr>
          <p:spPr>
            <a:xfrm>
              <a:off x="4581360" y="487332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3"/>
          <p:cNvGrpSpPr/>
          <p:nvPr/>
        </p:nvGrpSpPr>
        <p:grpSpPr>
          <a:xfrm>
            <a:off x="4548240" y="5345280"/>
            <a:ext cx="633240" cy="380880"/>
            <a:chOff x="4548240" y="5345280"/>
            <a:chExt cx="633240" cy="380880"/>
          </a:xfrm>
        </p:grpSpPr>
        <p:sp>
          <p:nvSpPr>
            <p:cNvPr id="937" name="TextBox 164"/>
            <p:cNvSpPr/>
            <p:nvPr/>
          </p:nvSpPr>
          <p:spPr>
            <a:xfrm>
              <a:off x="4548240" y="5354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ound Same Side Corner Rectangle 165"/>
            <p:cNvSpPr/>
            <p:nvPr/>
          </p:nvSpPr>
          <p:spPr>
            <a:xfrm rot="16200000">
              <a:off x="4678920" y="5290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Box 166"/>
            <p:cNvSpPr/>
            <p:nvPr/>
          </p:nvSpPr>
          <p:spPr>
            <a:xfrm>
              <a:off x="4576680" y="5364000"/>
              <a:ext cx="60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94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tent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AI and Federated Id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deration struct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MRES AAI deploy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3F6-8066-41F2-A414-9E467F1CC01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7"/>
          <p:cNvSpPr/>
          <p:nvPr/>
        </p:nvSpPr>
        <p:spPr>
          <a:xfrm>
            <a:off x="1654200" y="2975040"/>
            <a:ext cx="5834160" cy="271440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18"/>
          <p:cNvSpPr/>
          <p:nvPr/>
        </p:nvSpPr>
        <p:spPr>
          <a:xfrm>
            <a:off x="900000" y="289728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IRCLE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technology and softw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1066680" y="1142640"/>
            <a:ext cx="779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-facto standard in Academic identity federations: SAM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ibbole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Internet2 (U.S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P: Java, needs Tomc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P: C++, Apache modu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UNINETT (Norwa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IdP and SP, written in 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7010280" y="633744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562F-1DF5-48D1-BF0D-3B8D5FE5167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041480" y="1104840"/>
            <a:ext cx="7619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key-point simpleSAMLphp functionalities 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t’s see what simpleSAMLphp can do from an example of user accessing web service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859-4C6C-40D8-883F-D592345EBA5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protect Acces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066320" y="1142640"/>
            <a:ext cx="762012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access to resource only to legitimate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2C7-176E-47AA-878D-A4FD357AE37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" descr=""/>
          <p:cNvPicPr/>
          <p:nvPr/>
        </p:nvPicPr>
        <p:blipFill>
          <a:blip r:embed="rId2"/>
          <a:stretch/>
        </p:blipFill>
        <p:spPr>
          <a:xfrm>
            <a:off x="984240" y="2322360"/>
            <a:ext cx="76662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F22-4CA9-45D6-A439-F911BB91F3E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"/>
          <p:cNvPicPr/>
          <p:nvPr/>
        </p:nvPicPr>
        <p:blipFill>
          <a:blip r:embed="rId5"/>
          <a:stretch/>
        </p:blipFill>
        <p:spPr>
          <a:xfrm>
            <a:off x="1728720" y="2784600"/>
            <a:ext cx="63514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built-in discovery service on SP side; works by displaying IdP entries from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D86-8252-43CC-A935-8A5AFA4B996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3" descr=""/>
          <p:cNvPicPr/>
          <p:nvPr/>
        </p:nvPicPr>
        <p:blipFill>
          <a:blip r:embed="rId7"/>
          <a:stretch/>
        </p:blipFill>
        <p:spPr>
          <a:xfrm>
            <a:off x="1641600" y="3422520"/>
            <a:ext cx="6216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1066320" y="1142640"/>
            <a:ext cx="76201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s redirected to IdP site, where she is asked to enter u/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us process of authentication is star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7947-FE50-41B2-808F-DAD96DA230E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6" descr=""/>
          <p:cNvPicPr/>
          <p:nvPr/>
        </p:nvPicPr>
        <p:blipFill>
          <a:blip r:embed="rId3"/>
          <a:stretch/>
        </p:blipFill>
        <p:spPr>
          <a:xfrm>
            <a:off x="1117440" y="2103480"/>
            <a:ext cx="7780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066320" y="1142640"/>
            <a:ext cx="78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IdP gets u/p, IdP must authenticate user against some data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thentication methods that come with simpleSAMLphp distribu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st of username/passwor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en ID, Facebook, Tweeter, MySpace, LinkedIn,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don’t find your authentication source on the list, you can make custom authentication mo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509-ED42-4AFA-AE68-C9AB6E9C80F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53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dp point of view..  - Identity Managemen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gardless in which database user Identities are stored, it is important that data about user is corr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M : 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et of procedures and rules which defin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o has the right to own digital ident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is digital identity assigned to a p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digital identity maintain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us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terminat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ust comply with national personal data protection la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D1B-3CAA-4D2D-BC87-A5839873CA9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EFD-E49B-4840-8962-BD9120DCE69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ttribute Releas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900000" y="1142640"/>
            <a:ext cx="804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ter user is authenticated, IdP can release some attributes about user to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 some principles are important 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 rule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only attributes which SP really nee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attributes upon pre-agreed syntax (schema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simpleSAMLphp, IdP can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lter out a subset of available attributes that are sent to a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dify name or values of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new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te new attributes that are composed of ot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3EB-1005-47E5-BC03-5E51716E076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fore Attribute Release, IdP can ask user about consent for releasing user ‘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very important from the perspective of national and international laws about protection of user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—data should not be disclosed without the data subject’s consent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5F9-7987-4635-8A61-132D1FF0F42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79DE-CCF6-4C40-B74E-A978BADBEA7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1992240" y="1611360"/>
            <a:ext cx="5465880" cy="4979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10663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 module is available in simpleSAML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E61A-2024-40E1-A6BF-41DF50B68D8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A82-3B09-43A6-90DD-204DF5D8EA8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 gets some additional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users e-mail address to send e-mail notif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B93-098E-4769-AD30-69BC62F17E0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Federation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 possibilit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ing one is very important because it heavily depends on state institutions are in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CB4-BBDF-4186-B7EA-8B66732B7D6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503-0239-4932-8CFB-DF65FD97BF5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6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826920" y="622296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28D2-BFB2-4411-A0A5-5A33A0EAC20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8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ounded Rectangle 29"/>
          <p:cNvSpPr/>
          <p:nvPr/>
        </p:nvSpPr>
        <p:spPr>
          <a:xfrm>
            <a:off x="1052640" y="389736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ounded Rectangle 30"/>
          <p:cNvSpPr/>
          <p:nvPr/>
        </p:nvSpPr>
        <p:spPr>
          <a:xfrm>
            <a:off x="1125360" y="3954600"/>
            <a:ext cx="2422800" cy="168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ounded Rectangle 31"/>
          <p:cNvSpPr/>
          <p:nvPr/>
        </p:nvSpPr>
        <p:spPr>
          <a:xfrm>
            <a:off x="2314440" y="5218200"/>
            <a:ext cx="11559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ounded Rectangle 32"/>
          <p:cNvSpPr/>
          <p:nvPr/>
        </p:nvSpPr>
        <p:spPr>
          <a:xfrm>
            <a:off x="2322360" y="48261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ounded Rectangle 33"/>
          <p:cNvSpPr/>
          <p:nvPr/>
        </p:nvSpPr>
        <p:spPr>
          <a:xfrm>
            <a:off x="1168560" y="57546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4"/>
          <p:cNvSpPr/>
          <p:nvPr/>
        </p:nvSpPr>
        <p:spPr>
          <a:xfrm>
            <a:off x="1109520" y="57722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5" descr="Database Icon 48px png"/>
          <p:cNvPicPr/>
          <p:nvPr/>
        </p:nvPicPr>
        <p:blipFill>
          <a:blip r:embed="rId2"/>
          <a:stretch/>
        </p:blipFill>
        <p:spPr>
          <a:xfrm>
            <a:off x="2427120" y="57531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90" name="Rounded Rectangle 36"/>
          <p:cNvSpPr/>
          <p:nvPr/>
        </p:nvSpPr>
        <p:spPr>
          <a:xfrm>
            <a:off x="2328840" y="4427640"/>
            <a:ext cx="1154160" cy="3585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ounded Rectangle 37"/>
          <p:cNvSpPr/>
          <p:nvPr/>
        </p:nvSpPr>
        <p:spPr>
          <a:xfrm>
            <a:off x="2308320" y="40132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ounded Rectangle 47"/>
          <p:cNvSpPr/>
          <p:nvPr/>
        </p:nvSpPr>
        <p:spPr>
          <a:xfrm>
            <a:off x="6095880" y="3852720"/>
            <a:ext cx="2548080" cy="15973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ounded Rectangle 48"/>
          <p:cNvSpPr/>
          <p:nvPr/>
        </p:nvSpPr>
        <p:spPr>
          <a:xfrm>
            <a:off x="6175440" y="390528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ounded Rectangle 49"/>
          <p:cNvSpPr/>
          <p:nvPr/>
        </p:nvSpPr>
        <p:spPr>
          <a:xfrm>
            <a:off x="6219720" y="4005360"/>
            <a:ext cx="127656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ounded Rectangle 50"/>
          <p:cNvSpPr/>
          <p:nvPr/>
        </p:nvSpPr>
        <p:spPr>
          <a:xfrm>
            <a:off x="6226200" y="4579920"/>
            <a:ext cx="127800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52"/>
          <p:cNvSpPr/>
          <p:nvPr/>
        </p:nvSpPr>
        <p:spPr>
          <a:xfrm>
            <a:off x="3527280" y="1828800"/>
            <a:ext cx="2641680" cy="888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53"/>
          <p:cNvSpPr/>
          <p:nvPr/>
        </p:nvSpPr>
        <p:spPr>
          <a:xfrm flipV="1">
            <a:off x="3548160" y="4510080"/>
            <a:ext cx="262728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55"/>
          <p:cNvSpPr/>
          <p:nvPr/>
        </p:nvSpPr>
        <p:spPr>
          <a:xfrm flipV="1">
            <a:off x="3548160" y="2717280"/>
            <a:ext cx="2620800" cy="207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58"/>
          <p:cNvSpPr/>
          <p:nvPr/>
        </p:nvSpPr>
        <p:spPr>
          <a:xfrm>
            <a:off x="3527280" y="1828800"/>
            <a:ext cx="2648160" cy="26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0AE5-5109-425E-93A5-09DE709EE1F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1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CE2-F36E-453C-8AB2-16C677D005A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0E7-6216-471B-B658-E7B6AD20E21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3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ounded Rectangle 47"/>
          <p:cNvSpPr/>
          <p:nvPr/>
        </p:nvSpPr>
        <p:spPr>
          <a:xfrm>
            <a:off x="6575400" y="356400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ounded Rectangle 48"/>
          <p:cNvSpPr/>
          <p:nvPr/>
        </p:nvSpPr>
        <p:spPr>
          <a:xfrm>
            <a:off x="6654960" y="361476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ounded Rectangle 49"/>
          <p:cNvSpPr/>
          <p:nvPr/>
        </p:nvSpPr>
        <p:spPr>
          <a:xfrm>
            <a:off x="6697800" y="3716280"/>
            <a:ext cx="127764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ounded Rectangle 50"/>
          <p:cNvSpPr/>
          <p:nvPr/>
        </p:nvSpPr>
        <p:spPr>
          <a:xfrm>
            <a:off x="6705720" y="428940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ounded Rectangle 45"/>
          <p:cNvSpPr/>
          <p:nvPr/>
        </p:nvSpPr>
        <p:spPr>
          <a:xfrm>
            <a:off x="0" y="3665520"/>
            <a:ext cx="2293920" cy="20750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ounded Rectangle 46"/>
          <p:cNvSpPr/>
          <p:nvPr/>
        </p:nvSpPr>
        <p:spPr>
          <a:xfrm>
            <a:off x="73080" y="3781440"/>
            <a:ext cx="2162160" cy="84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ounded Rectangle 51"/>
          <p:cNvSpPr/>
          <p:nvPr/>
        </p:nvSpPr>
        <p:spPr>
          <a:xfrm>
            <a:off x="115920" y="473868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4"/>
          <p:cNvSpPr/>
          <p:nvPr/>
        </p:nvSpPr>
        <p:spPr>
          <a:xfrm>
            <a:off x="57240" y="475632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5" descr="Database Icon 48px png"/>
          <p:cNvPicPr/>
          <p:nvPr/>
        </p:nvPicPr>
        <p:blipFill>
          <a:blip r:embed="rId2"/>
          <a:stretch/>
        </p:blipFill>
        <p:spPr>
          <a:xfrm>
            <a:off x="1374840" y="473724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47" name="Rounded Rectangle 57"/>
          <p:cNvSpPr/>
          <p:nvPr/>
        </p:nvSpPr>
        <p:spPr>
          <a:xfrm>
            <a:off x="1227240" y="4027320"/>
            <a:ext cx="9493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62"/>
          <p:cNvSpPr/>
          <p:nvPr/>
        </p:nvSpPr>
        <p:spPr>
          <a:xfrm flipV="1">
            <a:off x="2293920" y="3581280"/>
            <a:ext cx="579600" cy="112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69"/>
          <p:cNvSpPr/>
          <p:nvPr/>
        </p:nvSpPr>
        <p:spPr>
          <a:xfrm flipH="1" flipV="1">
            <a:off x="6197400" y="3581280"/>
            <a:ext cx="377640" cy="779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6D3-9999-46AF-B646-069BDF7D070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68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A5D-30FA-4BC3-BF6E-6FAE94AACF00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89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21"/>
          <p:cNvSpPr/>
          <p:nvPr/>
        </p:nvSpPr>
        <p:spPr>
          <a:xfrm>
            <a:off x="58680" y="4361040"/>
            <a:ext cx="2075040" cy="135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ounded Rectangle 22"/>
          <p:cNvSpPr/>
          <p:nvPr/>
        </p:nvSpPr>
        <p:spPr>
          <a:xfrm>
            <a:off x="101520" y="462276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26"/>
          <p:cNvSpPr/>
          <p:nvPr/>
        </p:nvSpPr>
        <p:spPr>
          <a:xfrm>
            <a:off x="42840" y="4640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5" descr="Database Icon 48px png"/>
          <p:cNvPicPr/>
          <p:nvPr/>
        </p:nvPicPr>
        <p:blipFill>
          <a:blip r:embed="rId2"/>
          <a:stretch/>
        </p:blipFill>
        <p:spPr>
          <a:xfrm>
            <a:off x="1360440" y="46213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96" name="Rounded Rectangle 28"/>
          <p:cNvSpPr/>
          <p:nvPr/>
        </p:nvSpPr>
        <p:spPr>
          <a:xfrm>
            <a:off x="6553080" y="4187880"/>
            <a:ext cx="25480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ounded Rectangle 29"/>
          <p:cNvSpPr/>
          <p:nvPr/>
        </p:nvSpPr>
        <p:spPr>
          <a:xfrm>
            <a:off x="6632640" y="423864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ounded Rectangle 30"/>
          <p:cNvSpPr/>
          <p:nvPr/>
        </p:nvSpPr>
        <p:spPr>
          <a:xfrm>
            <a:off x="6676920" y="4340160"/>
            <a:ext cx="127656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ounded Rectangle 31"/>
          <p:cNvSpPr/>
          <p:nvPr/>
        </p:nvSpPr>
        <p:spPr>
          <a:xfrm>
            <a:off x="6683400" y="491328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traight Connector 35"/>
          <p:cNvSpPr/>
          <p:nvPr/>
        </p:nvSpPr>
        <p:spPr>
          <a:xfrm flipV="1">
            <a:off x="2133720" y="4179600"/>
            <a:ext cx="1103040" cy="857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traight Connector 44"/>
          <p:cNvSpPr/>
          <p:nvPr/>
        </p:nvSpPr>
        <p:spPr>
          <a:xfrm flipH="1" flipV="1">
            <a:off x="5661000" y="4179960"/>
            <a:ext cx="892080" cy="806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was our start poi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 administrators have less knowle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s have different databases =&gt; no centralized fed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institution has its own S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decided for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-mesh with making it as much as possible lightweight: metadata management tool, attribute release recommendations,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01E-DA5A-4B81-ADD2-FF7DCB41828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066320" y="1143000"/>
            <a:ext cx="7620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have  set-up test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xt step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hands-on workshop with few chosen institutions which will continue in PILOT AA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experiences in PILOT, evaluate chosen solution, make some changes if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 PRODUCTION, continue with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/deploy new user services which would attract institut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53E3-7FF6-4F3A-AADB-BF28B11E34A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5264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or write 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marina.vermezovic@rcub.bg.ac.rs</a:t>
            </a:r>
            <a:r>
              <a:rPr b="0" lang="sr-Latn-C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997-9127-42CF-85B6-7443EC3DED23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B19-A1CC-4ADF-A2AA-3F724ED0AE9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o is your user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at she can d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A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Authentication and authorization infrastructure makes access to protected services eas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3AB5-416C-4DCF-88A4-004EB741AB7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14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B0EF-B1F3-48DD-B7C6-090DB8373BE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Straight Arrow Connector 82"/>
          <p:cNvCxnSpPr>
            <a:endCxn id="639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40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50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F73-705A-471A-995D-4127EE2F500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59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82"/>
          <p:cNvCxnSpPr>
            <a:endCxn id="665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66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77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F56-95AA-40D0-9C32-7ADFFE905DF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11:59Z</dcterms:created>
  <dc:creator>Marina Vermezovic</dc:creator>
  <dc:description/>
  <dc:language>en-US</dc:language>
  <cp:lastModifiedBy>Morganti</cp:lastModifiedBy>
  <dcterms:modified xsi:type="dcterms:W3CDTF">2014-08-25T14:36:12Z</dcterms:modified>
  <cp:revision>893</cp:revision>
  <dc:subject/>
  <dc:title>rsEdu schema V2.0</dc:title>
</cp:coreProperties>
</file>